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</p:sldMasterIdLst>
  <p:notesMasterIdLst>
    <p:notesMasterId r:id="rId37"/>
  </p:notes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  <p:sldId id="270" r:id="rId52"/>
    <p:sldId id="271" r:id="rId53"/>
    <p:sldId id="272" r:id="rId54"/>
    <p:sldId id="273" r:id="rId55"/>
    <p:sldId id="274" r:id="rId56"/>
    <p:sldId id="275" r:id="rId57"/>
    <p:sldId id="276" r:id="rId58"/>
    <p:sldId id="277" r:id="rId5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notesMaster" Target="notesMasters/notesMaster1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slide" Target="slides/slide15.xml"/><Relationship Id="rId53" Type="http://schemas.openxmlformats.org/officeDocument/2006/relationships/slide" Target="slides/slide16.xml"/><Relationship Id="rId54" Type="http://schemas.openxmlformats.org/officeDocument/2006/relationships/slide" Target="slides/slide17.xml"/><Relationship Id="rId55" Type="http://schemas.openxmlformats.org/officeDocument/2006/relationships/slide" Target="slides/slide18.xml"/><Relationship Id="rId56" Type="http://schemas.openxmlformats.org/officeDocument/2006/relationships/slide" Target="slides/slide19.xml"/><Relationship Id="rId57" Type="http://schemas.openxmlformats.org/officeDocument/2006/relationships/slide" Target="slides/slide20.xml"/><Relationship Id="rId58" Type="http://schemas.openxmlformats.org/officeDocument/2006/relationships/slide" Target="slides/slide21.xml"/><Relationship Id="rId59" Type="http://schemas.openxmlformats.org/officeDocument/2006/relationships/slide" Target="slides/slide22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dt" idx="106"/>
          </p:nvPr>
        </p:nvSpPr>
        <p:spPr>
          <a:xfrm>
            <a:off x="381312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 type="ftr" idx="107"/>
          </p:nvPr>
        </p:nvSpPr>
        <p:spPr>
          <a:xfrm>
            <a:off x="0" y="937404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6"/>
          <p:cNvSpPr>
            <a:spLocks noGrp="1"/>
          </p:cNvSpPr>
          <p:nvPr>
            <p:ph type="sldNum" idx="108"/>
          </p:nvPr>
        </p:nvSpPr>
        <p:spPr>
          <a:xfrm>
            <a:off x="3813120" y="937404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0C2BB0C-5681-49A8-AA3B-DBA76D453B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Номер слайда 3"/>
          <p:cNvSpPr/>
          <p:nvPr/>
        </p:nvSpPr>
        <p:spPr>
          <a:xfrm>
            <a:off x="3813120" y="937404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C020627-B67B-45E1-A1C0-E7AD2B400A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8819-2FD7-4CFB-AF82-BD49090E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DE3F-58D2-427A-BBEB-1CE4B2BF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E191E-C3C2-462E-995F-0C40EBB6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2F3A1-9DA3-44FC-8154-7BB424C9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5BA7A-7244-4A97-8C8F-CFBD09CA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6C7D6-6A01-4720-B7A9-D156CB65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DDFD7-24AF-4F69-B16C-8261B45F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4B4AB-F0A4-4C80-AFA7-8201BBBE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DDA04-5B2A-4BB0-A2CF-B1ECD583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E98FC-B25F-4769-B21B-0205A15F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8FAEB-F6A6-4889-ACF7-D9DFB599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BA634-C5BB-4CE6-8190-5B9DD956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7C70-F1A3-4134-AF25-620530B8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639E6-91E3-4A5D-A282-3CF1056C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08F64-E6AB-46F1-8FF1-F9ACE584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839F3-78CC-412C-80B2-C9546467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872D1-74F8-4FA2-B128-1C9DB09A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26FEC-54F9-4114-AE36-7EBC7758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14B13-B70A-4D04-94AB-A2561914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A5B0A-2EE4-4104-807A-F0BBE86B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53C38-A628-4E2C-AE67-8A0BEFC1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D6C7B-35ED-42CE-ACFA-FA7C5804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5D3DC-E2A2-4362-B2C4-3F587B18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BF63-A454-409B-9235-034004E1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DF1B8-E8F5-4F86-82AE-AB73310A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BF482-C17F-47AD-9C15-909E933F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83854-403E-4370-B082-C8FA98BF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E5E33-D547-42E9-B518-003C3EC9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C1173-FDBF-4A3A-9B70-781692A5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2320B-50A3-47E6-90FF-A9AD6794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E4F26-4CBA-4E9F-97E8-92972AB7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81658-AC80-4986-B12F-C9AA563B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59FEF-DAC2-4A0A-A675-DF02617C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CC75F-4E86-4A94-BE62-5271D3C9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90A9-D7D5-4270-9249-203F4F8E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2CDCA-8627-45B3-9FEC-4396AB84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3D265-98F5-48B5-95C7-5DD95C78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3AAFD-ADE7-4C59-A0B9-2F1F544C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44148-02B1-4796-A857-9C4219BB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E0D11-0F4C-4533-807C-CB6DAC12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85CFD-34F3-4D4B-8396-FC3E0D78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9727C-A081-4465-82D7-B3DF003B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B449A-7CD6-40EC-85DC-B43AFCC7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1630C-71CE-4C1B-92A0-BFC5663B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0FA96-2B13-4C26-A0FB-C71A1A53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22D3-4571-4681-9D9F-F3360D3E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0F40C-981C-4834-B09D-7AFF54FA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ADCC5-7CD6-4B43-98FB-14C10765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594C4-12BA-41C2-AD44-00CC1558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C5B6D-404B-45F3-8328-07764806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E8194-73BB-49D3-9102-CB46EF92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744BB5-A24B-45B4-93ED-0311A313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56E166-67EA-4ED3-B115-0853C0A8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E15421-CA65-4EE1-9F0D-A7961285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557CF7-2BC7-4714-9F6A-2E3045EA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72CF1A-9C52-4022-B8AF-B9D7358A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482F-9FB9-456C-B632-5AFD081B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D19C1A-377D-4860-BF7F-F32A7A15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B86FA6-C22F-4C3D-A4EA-29EFC2F2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63742B-454F-42AB-B971-32F16A66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7BF518-6804-44CF-ABA9-CFDD2F29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5D5242-8097-48CC-8872-C6B6BB41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89CDCD-6B5C-4F0B-943C-B836F904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37A122-1225-4C0E-B00E-16B9759D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62C76A-5821-4B32-9F9A-870F6704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339ACF-0E2F-4BDC-82B0-6C907F4F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FC281F-1BCB-4CC6-8CCD-DFFFF31A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0D23-C0BD-407D-BE80-7A71E133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51E4B6-4384-487B-919C-C308C87C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240564-6AA5-4684-AF14-C5EFCC99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FC4685-9606-4817-8989-6D9361AD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47DE37-0839-4BEE-B7E7-A4F66893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A7B27A-D263-4380-AD36-B7CDF9B4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60A97E-331A-4B9F-B9AF-CC30F279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B4A944-52F8-4850-AE2F-781888AE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DA6D68-A426-49F3-9834-892426DC9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9389E7-55EB-4229-B081-A63897D4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014045-1277-4491-9CA1-8F28C605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FDBC-237A-4EE9-9958-E9F0BC42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0F6024-C9A5-454C-BC8A-12306D11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B4BC6A-99AD-41DB-8201-AE68FA88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98704E-03F6-4180-90D8-84E1A0F8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252F55-0276-4731-A3CF-042421D2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658BBC-3A19-4E28-B657-B98E5415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A9267E-A824-45C3-8C70-85673CEB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604594-6139-4759-915A-D2761101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645AB3-0507-479A-A40F-A5B96971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9B40AA-26FD-4F1B-9F9B-306F45A2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2F08D9-6B15-448D-878B-2D7C0874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F189-8EB9-489C-9C2D-BE51B7A1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C4958A-918B-4D03-A8A2-98C98380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E310B8-1940-40E8-B066-C5D18F36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6DA8E8-D151-4406-8FA4-4F94CBAC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8AF507-4FD5-4517-A860-D5F4ECF0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9D1A6B-407F-4D13-9ACF-3864879E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8A3D0E-41A2-4E15-902E-5227E1DA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6BF016-F447-4F3B-8446-378B6C3C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CC1459-9E6E-4596-A6E0-E629ED4E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DD51D1-5715-475D-91CA-7327CF34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5A327A-88C7-4F74-93C6-B77934C4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DB16-A67F-4DBD-82F0-E01F451C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CFE673-1909-48AD-B1B6-316850DB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9328F2-5953-4AFD-910D-64CF6F4A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CAF2A2-C67D-4240-9469-34F658F6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390032-2B21-4F83-B7C9-43404A66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54F4C7-F6D1-4C34-9B51-576CAB4E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8BDE82-7B8E-4A11-B199-892DA04B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54EA49-ED9F-40FD-A39B-278E49DB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721107-CE56-4D8B-A22C-3EA44D24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39D7F2-7141-4B38-BF4E-2F292D70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8E5EBD-3071-4A94-87B4-5303F449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CC97-890C-409E-A1AA-142FC026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1FBE-B58C-4B0C-879F-A2B3B8B9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360108-7968-4C16-9101-0DF1FFA9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AB7069-0717-47DB-A466-7D7758B9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2A3C8C-D95A-4ED9-AB57-1B3D4A80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0DB7F0-18E0-47AA-AA36-5055DD72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42C693-42A2-490F-8D84-250AA1A1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4F10E5-8856-4543-A0B6-F2E6702E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9B0004-4ABB-4A72-8994-722C145E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13C270-8F8C-4A9E-9B8E-8E27F2FC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021A24-91C1-40C2-B38A-3DE09AE9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757857-B586-4E70-A475-C7AE2123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D492-BCD0-4E75-A42B-17C2E464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20EAE8-26A2-42DC-9266-748EDB76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95B380-6EEF-4A72-8BE6-24F0A1D2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4BCA5D-EAF1-4AE5-89DD-9B31003B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62BDC9-7CD7-4B16-BDFB-78B244E4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2F1288-E99D-4222-98C7-2857E396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71CFC7-AAE3-4094-ABB1-58B95A36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B6EA4D-EE92-4EEB-9BFA-29ACC3CC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2603DF-B518-4C7D-A889-EBC6B7A3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00E61D-4432-4E95-A76D-7F72AB31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F91E71-5C56-4612-884B-6A617380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0686-38F4-454E-A917-A926D1E6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90E48A-5646-464E-8E49-BB99EFFA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0E46A0-1482-458D-A6C9-12C5033B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9EADAC-9A9E-47C4-9483-661D8BC3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C82519-E479-4694-A5BB-C1BCB1BB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B0391E-E336-4F6D-AD5F-F28B28B7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B3C587-3D5A-40E4-A457-A1FD705D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9063C0-738D-40B8-942E-2831F12E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A5359E-2493-420E-B596-0585920A6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2AF393-95B1-4E0C-AF14-188561202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DB2FA9-BEE9-490B-BEF7-C9C2E994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3863-7831-44C0-A96D-B0BF8137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1BC995-6CF4-4586-9F0E-36B58F2C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0CCD8B-5BEA-47AB-B3C1-932CC2ED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6D2F0D-80E8-4807-A445-F7EF00C8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4D7856-0645-4967-85F2-787BEE6C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66C04E-F19F-49AC-BFFB-D2598DDD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CBCA2F-542F-4D3D-9D73-53370643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F93188-A1C1-49C9-8234-F0437017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C76595-B96B-4111-8CB1-A6745398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1D7B21-5311-463E-86FE-1E93CE40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CAD09D-BC6C-487A-9D25-BE48F678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0218-9A15-46A1-BA64-556A30A2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66B190-0D31-4800-B286-0BC87353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42229A-620A-49D5-A8C1-27D58BDF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92E09C-4834-4A06-B6E5-9B1905D0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5D50CD-B0CD-4DCD-A21D-69EE4C21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21832F-2366-4556-9EE5-EDD8724A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7E438C-30E4-4E16-890F-C79B58D1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BD41B1-FCE1-447E-956B-FA3CBC55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F93655-CBEE-4CBE-A02D-B454BFBA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56928E-576B-40DF-8522-62ECF309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D74242-771D-417B-8EF5-2ED072C3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02376-A8F2-458B-A639-697C0292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0A1467-14E4-4EAC-AB98-4283EF1C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C407C1-E662-4B3C-A590-04173006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57C19F-BA5D-44B2-B523-9E8539DB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951A42-7798-4502-8A5B-578F146D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FE5DD7-5FD0-416B-8732-3B45695C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87256A-2E6B-41FF-8CDB-54CE8CE7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EF897F-080E-4A81-8AA7-268B99AC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41C11C-5E2D-4EE7-AAC3-097F22B8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F90D4E-9386-4184-B8DC-E7E2B969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839E21-78D4-41CD-BA3F-9BBC59D4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7EB7F-F81D-4C43-A9B0-3C11FFEC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97B34A-B9B0-4E75-9872-D6D8B603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817791-C2BA-4747-932A-F6DE1C3F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E9AF7E-6074-4D92-B6AD-5898DC96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235810-A07F-4C2C-BDB1-AC6502E0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92B3BD-125C-470A-8CE9-16E786D8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955FFE-D109-428E-AFFF-2AFCFA5F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A62AC4-271B-41DF-B274-2EB014FC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C0A3F2-5CE0-44D9-9131-D1795D92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5DAC21-FFF2-4D0B-A7E6-B0530178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028BF3-C066-4558-AA9C-BB42FE2F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22FC4-8809-4730-A211-5C380658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A45A2C-03A8-4829-8A77-B1108375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B532C6-46DE-4F62-95DA-9B244329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17C14B-81A5-4939-9033-A53FBE21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A1F240-75E9-4947-A9BD-A8158756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BA5711-CAC4-4894-87D4-80822B02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3863CF-31FC-49FD-B3DB-6CD151D8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BAB66A-D7DD-4CA5-95BF-1C9B812D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DCAC5C-C0E7-417F-9419-8FA35499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D66E74-D659-417E-ADAE-CA4C3B16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C74AAF-9E53-4C22-ABEB-5818B785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74362-BB3A-4158-B545-F18A86FC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0B7528-D47E-444C-B6AA-9BE9F34B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A64E77-8EAA-4043-8E13-FE066758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D93531-A131-4055-9871-F7DB09B9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87211C-F267-48D2-82FF-A7FB23F0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7797B9-D11C-4BDE-9BF3-28CE09F7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A1DA2F-627E-4E89-A384-50034D86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9BBE7B-F465-4488-9F55-58A88A24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8D5936-4104-4D1E-9AFA-1E628DDD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5ABC06-F97C-4EC5-8AF1-B017DC7F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B73F7C-08D9-4A26-A648-BDC3D3A1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6A51E-B61A-4188-B1A8-23E87886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343A39-9BC9-42D5-AF71-0C635DFB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8920CA-5613-47A8-AF56-6E8389DE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9B4B0F-8D8A-47FF-B4B3-3CC27A31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A2154E-CE10-43C6-98EA-5F42B40F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1858E0-69C3-413C-934C-3EB7D9A5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6569B1-EC30-4368-A643-65A6CF2E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FAF06C-16DC-4A46-82D4-1D1941F3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2E9750-621C-45F3-BCDB-9E006C68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FB95D0-FF2C-42CD-B438-CB8AF585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46227F-E832-421A-8D74-81EE372F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0815-51AF-46FB-A23C-B2F23F23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18181-9929-473E-A766-99819010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3C8852-6DD8-4181-B4B9-A531024F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A8FE57-DD5E-4DBF-B4C8-92461580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736F5D-E02E-4168-8802-36A0D2E8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4990C3-4883-4219-8CD1-3B51D347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E0A866-D7E9-405E-8393-D062DE84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21C6D0-8F60-4812-A4A9-A84DC915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09852D-22EE-46C4-8771-4CA66F24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5E21DA-F6C0-42F0-9DEB-EA687D8F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7A75B6-4D40-4107-B848-C3092CAA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605199-CD3B-41B5-B9DD-29611A8A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54EA8-C657-49D9-BD27-E1FE0154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6AEE02-A9BF-4BF5-9E91-A188514F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AC31DB-57EE-4CB5-B21B-02A1B905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0498CF-6C00-4BD1-AFAF-72F8FB4D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86CE3B-56EF-4A6A-AC7F-8A070FFE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9229DA-0FEE-4A30-A366-813474A8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AA4265-C1F2-4635-941F-79F01D3D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3E7BBD-1675-4F3E-9244-86EA83EA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860335-084A-481D-8E0A-F6F11A54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EB7ACE-CE14-45BA-9029-5F7F3F59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1263C1-C45A-4938-BBEE-8F87B547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CEDAE-6F04-4E6A-9855-B14237AE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13EC85-F76B-4AC5-9BA1-AF039BE0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6739FE-4946-4565-9A19-83F738C2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93C5B8-57EF-4EC5-B032-0B6FDEA2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AA778E-A947-4A2D-BA78-F7D892EC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FA8583-9D2A-404E-8CE7-EA912CA7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79E533-E1F8-4047-9967-ED72A703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ECA2BF-BEFA-40E9-A227-270E262F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169261-DAC0-4EB2-BD27-E451D79E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3A563E-1148-4CF6-8DA6-FE70E705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403AF2-FA79-4BFE-AC85-6C4A5AF2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08DB0-AF41-45AC-A0A8-6F500B8C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11E006-B0EF-49B0-9073-BE21488D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785791-F5E4-4282-80BF-C3C8951F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05AA43-84B9-4E0A-99BD-52B8E860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7C1407-AFB2-4484-A231-901D478C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69978A2-9446-4EE9-99BC-CC1FDEB9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8EED78-2795-4EC6-B5BA-543F8695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719DA6-08ED-45CC-B4BC-94AC15FF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EB490A-11DF-4AFD-AEE4-AE9A9E16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356AA8-8811-440B-89A9-C9D53108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2D06EA-9BE3-4BFC-BF59-FC069BBD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5E73E-0F4D-44EE-8B8F-607F5010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AF0D92-578B-493D-ABAD-3B830A08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E8CDC8-6564-4609-9638-68A0F233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B6DE4FF-E92D-4241-BDA8-F5A54FE1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A5B4EB-0902-488B-90C6-E7D8B7E6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2B684E-A925-471A-BD0D-7F1E7C6F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0FEBE8D-33EB-4713-99DF-477A21C0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C98416-3DCD-4228-AE90-6B34E7A4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EE9EFE-F7BD-4954-9A7D-BD4575F7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70A7F3-5389-4E3A-95C4-AC915936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8C9A07-491A-4CBF-9139-B6B81A1F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2A19D-A734-46ED-A2F3-2F949151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AE930A-8F79-4C8B-9788-01237B9E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D1D88CB-A4D1-44A9-A766-1FB0600B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4F2F49-DD15-4F77-B4B2-873D3371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FE553F-7663-484B-B8F3-621AE439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99DBEFC-0A2B-41C5-AF06-9DEF3FBF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868E9B-B21D-4281-9D1D-09EFFA53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7E8777-46F0-4578-86DA-5980E7CB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E3B95A-A500-4416-B318-D7B0194C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E1656E-99B4-40C8-BA05-3874296F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2EB354-3939-4049-B913-337D6D29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310D1-95A6-43F1-95C6-9A1E5430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DC8EDB0-C0A5-4F08-BDDA-9C44D9AA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86F694-9F4A-4D4E-B677-0731645F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9E807C-FFA0-4925-A402-23C11277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05A2AE0-5C1D-41CF-BF4B-7910577E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0DB9BD-90CF-4537-B83D-062222E0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074F50-3E86-4A28-B797-5278EBB0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FB4E68-8596-4989-9FCF-03E5A5EE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F176F8-1BB7-46FC-931A-32609057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F6495A5-F16F-45FD-AA1C-9814D334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86F9F0D-AE59-4FB1-9DDA-3FA8F370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F408B-411F-47F9-A656-31CD491E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F2FC758-9CD7-42B5-9890-E4302626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F855C18-EBC7-4454-B8EC-53DB3D6E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75AF427-3414-4241-B774-6D3EBA0F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71F43F5-CE90-4658-9796-67F40124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FD78531-3C56-4170-AA09-DD7B5B2D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DF0D327-9B6B-43A1-A756-45509A6C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E4F07D-EAE0-4B7A-8276-A19A0BDA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D1D8769-7F0D-45C4-80EB-886789AE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EFEEA7F-9641-465D-A08C-5610B8CA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B6DB5AB-01E3-4252-B90F-B195DFCB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7EAEA-6A42-4BA5-BB64-C6BC9A04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4F15749-7313-4A04-9E55-0FB75B0F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19F1340-756B-4E72-9C9D-D67E9B72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B81FBBB-EFCA-496F-847C-58A1AAE1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E491082-B180-4104-994E-4ED28039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D50B12B-1EC4-4654-A266-B327C24B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B785C70-22CF-48E6-B2E6-E914609C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1AC1521-73E2-40EE-962D-5DA92161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2C62006-CC8C-4D37-A82D-7083A220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21B82C7-FE14-4530-849F-E3A308C5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2939279-0B1F-4DA4-8992-8FA53B74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3FD1B-272E-4DBB-B1F0-8933324D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BFD64B8-9765-460F-8F3C-7E68E925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CF9CACE-2AAD-4510-8AD9-F7FBC720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DFBEBA2-9722-45A7-98EF-7554DD8D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4FEBB42-122B-4561-BA6A-30A0BF66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B5D0E7-7570-46C2-A455-01580F9E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436A361-DD8C-4D41-BBD1-7DC3DD35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99DD660-29FC-4938-BB5B-A66086D4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18FC01F-8FDE-41E9-A9CE-424622B9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53E8A3C-EF5B-4728-8234-EC446AE1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5D3082B-EA25-4AC2-9FF5-B77D8C63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8720-B00A-4CC9-9D40-7CD1850E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EE2A2-099A-4DD3-A013-6DA57942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FBF6A57-3929-4677-88A0-C9F6DF9B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54DF439-68B8-4686-87FC-157F539D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8BC36D8-3D30-4855-AEA3-0FB62D07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FC2545E-CE55-43E3-AFEB-45BAD1A4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D873BC6-29C8-48BA-A9B5-A67C4481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BDF1A13-5175-4ACD-8A32-70C2DCCF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3AFB56F-9456-4C33-BFC4-3B73C763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F93877-E100-460D-9902-A1F32381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62A3172-CCD4-4B8A-A33E-0C9AD346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EB12563-2F17-451B-8784-13DE759B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ADB5D-F511-4A68-BD21-6F13CBD3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E9E34F9-3D7A-4822-B625-2607E7A7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63E513C-94A3-4764-A6ED-D92A5A23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47840CF-82DC-4E3A-9656-D3924E00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4214674-8F10-40A1-B30B-CCAEF684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D505F1E-D47F-4C2E-9112-A1ADCCF0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71D3FFB-D489-4D44-8C8A-8D44386A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E129917-9279-46E5-86BB-95BFAE7A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027F57B-F269-4AE1-96FD-F9C359A4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03CF589-8AB7-4DC5-B30C-D28629D6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1F31B81-3561-4AFC-B6BE-0F410CE08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2A21A-FC2E-4E6D-8955-BB98E493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BE9D077-495A-4ADA-89AB-3EF439F2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F56E9-7B8B-47E0-ACB8-0AA83DCD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39317-D7E7-4C3C-A7D1-444F9196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A56F0-2B32-4A12-9628-24DE7F17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5733E-8BDD-464B-BF38-3B9E1B8B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BB95D-6613-4793-A4D2-C83A169C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6B3BB-9C47-4FB5-BE3E-FBBD8638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53653-A602-44C7-9478-7D0C012F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09ED-C77D-4513-B680-15182806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28C4A-8A47-45A7-B4B3-A2BE319E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E5BDB-68FF-4FCC-837A-30C8342B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60C64-A573-4373-8AF1-183480D6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39769-BA98-4C9C-A910-E7F0022A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E7D9F-295C-4DCA-9DF2-AE08F5E9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A9335-A3F9-44FE-8BCB-76249D10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BE397-669D-4592-9EB8-F8584E3A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E7FEE-FE7D-42F2-AB00-E0313668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AD73E-5F7B-4220-AD57-B9A3E91F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0E087-09CE-4DD2-8B43-49AF56683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24F9-8388-4F8D-A994-D1D6F701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4875A-A2D8-429B-9BE9-C36B7C17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D8C02-4367-4EAD-9CE5-F6C3D0A4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9CC61-A5ED-44DC-995A-C26A3F0D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E620F-6D33-48FE-8284-B9BEC981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11377-9421-4762-B325-E64B0E61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0D0EE-935F-4911-A1F6-BAEC10B6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C3E95-4D2D-46F9-8676-74152E4E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23E43-603E-4AB8-A1A8-B5BBC1BA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783FE-8A4B-4D82-9DDB-0B40025B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238D8-4FA7-486B-9DDC-680915FF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D05E-0A4D-469B-85A1-D0B8CB2C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6AA48-78A0-4A53-8727-98887BB2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E5213-0180-435A-8E5B-3566599B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5C380-09BA-43B3-A217-BDCE1D33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5B958-B826-4892-B504-F03B8AB6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DE8C4-53C6-413C-9CF2-8E4A117F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744E3-86DD-4950-A50E-0D8B66AE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AA876-8FB5-4F7D-ACBC-9CD753EB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234D6-F41C-483C-9F7E-58F68F34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9E5EC-B501-4BDF-8DE4-48DECF57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92A41-FFAB-4DAE-9B19-D4A0D1AE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3625-0880-4E95-BD5F-649CC5F0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4146A-F29C-4949-8042-D9957788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6D7FD-65B0-43A8-9FBD-12B3B77A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C5038-85FC-489A-AB37-D6BBBDB4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E6EFE-B6AF-4FDE-82DF-CB27C037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28916-F0A1-4867-B99A-D4677025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1B1F1-F48F-41BA-8596-20B7A547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A4606-831E-49DC-84B1-9E5A8E74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D0A34-17B8-4122-9CCA-48B4C154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58F7C-49C1-4CC3-9203-CA1E2687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EC770-FC25-4906-9CCB-1C3E114B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38A6-F4C7-4021-9E8F-1F476728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8415E-E301-4BDD-99CC-A0FAC9E5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F9E80-3027-4B41-934E-F017ABFA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68EE5-050F-49C3-8DD9-97295FBB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E683F-0DC2-46D5-83EC-2D58A7AD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67473-ED88-489A-BEB8-E23CB56A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E9681-A188-4989-B8F1-BDAAFF9A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CB8E2-0932-4911-83C5-C9184F10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12532-8B07-4F17-8BCB-2A837D82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F4B7E-D762-465C-B68E-D8C1CBEF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D8E7E-40F3-41F9-8748-1940BBA5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99F2-037D-483D-B3E4-4DD3FB8312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E224-B436-41C0-B94F-48ABA7C9CA0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15C6-DE35-4606-B198-229C00CCC2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5193-0677-45D4-9D51-68697077B9D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B9E1-A302-4D81-8FB2-AA382FC5A5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7883-78A0-46CD-96B2-46D17FDF7F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F26F-7E2E-49A0-B210-D917A4A95D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04A2-1248-4FD6-886E-BAB8AF3D4FA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3CEE-41D8-4A5B-A1DC-986D43EE5ED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3174-ECF2-4393-8841-5688B32B8AC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2D70-86D8-4EFF-9282-964E7D8662F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A234-3246-4B8C-9E2D-6AD69B5C28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1F40-B527-4C3B-A076-EE7211885DA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8901-8586-4B23-B943-D3841D9A97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F6B9-D7E0-4268-85C4-08404AF1EA1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12A1-ACD6-46B5-9B97-B864F01C313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58C4-0107-46EE-827C-0FEF15B8B0F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6323-8DEA-4329-B017-E785392264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BE10-8333-4E87-88FB-27FAE66204A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176A-C9A0-48F8-82E0-4963A2D8C6D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462D-AFC2-4462-9D84-CD7AD6D3D87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CEED-C037-472F-B90E-2AA3A207FEC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C534-6D1E-4D99-90B9-53E0782B6D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1109-35EA-43DA-AB30-9B49A6000D1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7A79-AF6E-4519-A971-BA022D97D2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2439-9772-411B-8CE1-6A21B8FD11A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5A28-8A10-49CF-905F-DBB9D26A5C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1FD6-38A1-483F-A709-11C94045EF2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4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395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6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397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8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409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7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28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5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46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3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54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5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6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7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8ABF-CFAF-480E-B4F5-622E4A913C0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22C6-ED51-4215-8C84-3236B36A6F2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E385-C3DC-42EC-8491-8566B39E55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CAEF-EC6F-4C7D-B1C9-A443ACA7ED8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C8D4-1101-4DD7-B443-293B02F021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DCF2-B5E6-44DC-A51D-F7545FEA26B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C9E5-BC3A-4650-9F2E-75C0344E82A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1395-61E3-4F70-903D-15D092CA60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7AF8-E6DB-448D-A2DB-31B46E5ADB9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356760" y="1071360"/>
            <a:ext cx="8294760" cy="21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Бюджет для граждан»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полнение бюджет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лек-Пеньковскогосельского поселения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 2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7" name="Picture 5" descr="i?id=5b90ae0823253058baec6ec95c465d24&amp;n=33&amp;h=190&amp;w=154"/>
          <p:cNvPicPr/>
          <p:nvPr/>
        </p:nvPicPr>
        <p:blipFill>
          <a:blip r:embed="rId1"/>
          <a:stretch/>
        </p:blipFill>
        <p:spPr>
          <a:xfrm>
            <a:off x="3357720" y="4000680"/>
            <a:ext cx="250020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TextBox 2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gradFill rotWithShape="0">
            <a:gsLst>
              <a:gs pos="0">
                <a:srgbClr val="c5e0b4"/>
              </a:gs>
              <a:gs pos="100000">
                <a:srgbClr val="e1ecfb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Налогового кодекса Российской Федерации для бюдже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TextBox 3"/>
          <p:cNvSpPr/>
          <p:nvPr/>
        </p:nvSpPr>
        <p:spPr>
          <a:xfrm>
            <a:off x="324000" y="1125360"/>
            <a:ext cx="8424720" cy="916920"/>
          </a:xfrm>
          <a:prstGeom prst="rect">
            <a:avLst/>
          </a:prstGeom>
          <a:solidFill>
            <a:srgbClr val="e2f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овый кодекс Российской Федерации  (принят в 1998 году) устанавливает систему налогов и сборов, а также общие принципы налогообложения и сборов 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Box 4"/>
          <p:cNvSpPr/>
          <p:nvPr/>
        </p:nvSpPr>
        <p:spPr>
          <a:xfrm>
            <a:off x="395280" y="2452680"/>
            <a:ext cx="8353440" cy="368280"/>
          </a:xfrm>
          <a:prstGeom prst="rect">
            <a:avLst/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оговый кодекс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TextBox 5"/>
          <p:cNvSpPr/>
          <p:nvPr/>
        </p:nvSpPr>
        <p:spPr>
          <a:xfrm>
            <a:off x="395280" y="2820960"/>
            <a:ext cx="4140360" cy="368280"/>
          </a:xfrm>
          <a:prstGeom prst="rect">
            <a:avLst/>
          </a:prstGeom>
          <a:solidFill>
            <a:srgbClr val="b4c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TextBox 7"/>
          <p:cNvSpPr/>
          <p:nvPr/>
        </p:nvSpPr>
        <p:spPr>
          <a:xfrm>
            <a:off x="4535640" y="2820960"/>
            <a:ext cx="4213080" cy="368280"/>
          </a:xfrm>
          <a:prstGeom prst="rect">
            <a:avLst/>
          </a:prstGeom>
          <a:solidFill>
            <a:srgbClr val="b4c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TextBox 8"/>
          <p:cNvSpPr/>
          <p:nvPr/>
        </p:nvSpPr>
        <p:spPr>
          <a:xfrm>
            <a:off x="395280" y="3173400"/>
            <a:ext cx="4140360" cy="173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ирование порядка взаимоотношений налоговых органов и налогоплательщ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Box 9"/>
          <p:cNvSpPr/>
          <p:nvPr/>
        </p:nvSpPr>
        <p:spPr>
          <a:xfrm>
            <a:off x="395280" y="4640400"/>
            <a:ext cx="4140360" cy="173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ответственности за совершение налоговых правонару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Box 10"/>
          <p:cNvSpPr/>
          <p:nvPr/>
        </p:nvSpPr>
        <p:spPr>
          <a:xfrm>
            <a:off x="4530600" y="3191040"/>
            <a:ext cx="4213440" cy="173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и порядок взимания федеральных, региональных и местных нал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TextBox 11"/>
          <p:cNvSpPr/>
          <p:nvPr/>
        </p:nvSpPr>
        <p:spPr>
          <a:xfrm>
            <a:off x="4535640" y="4649760"/>
            <a:ext cx="4213080" cy="173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налоговые режи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Номер слайда 12"/>
          <p:cNvSpPr/>
          <p:nvPr/>
        </p:nvSpPr>
        <p:spPr>
          <a:xfrm>
            <a:off x="8604360" y="6381720"/>
            <a:ext cx="36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C255-3A2C-49E1-98EB-3E1006D1127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доходов бюджета сельского поселения осуществляется в соответствии с требованиями Бюджетного послания Президента Российской Федерации Федеральному Собранию Российской Федерации о бюджетной политике, на основе положений Бюджетного кодекса Российской Федерации, Налогового кодекса Российской Федерации, решений земского собрания Илек-Пеньковского сельского поселения (о едином налоге на вмененный доход), а также решений представительных органов местного самоуправления поселений по местным налогам (земельному налогу, налогу на имущество физических лиц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Номер слайда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E119-A72E-430F-82CE-3B36DBCBD5E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лек-Пеньковском сельском поселении бюджет формируется на три года. Ежегодно принимается постановление  главы администрации сельского поселения «О подготовке  бюджета  сельского поселения на очередной финансовый год и плановый период», которым утверждаются календарный план мероприятий и график представления документов  по составлению проекта бюджета сельского посел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календарному плану администраторы доходов и администрация сельского поселения представляют необходимую информацию для планирования бюджета на очередной год и на плановый перио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Номер слайда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7005-77E6-4A59-A72D-9BE5E94EB48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"/>
          <p:cNvSpPr txBox="1"/>
          <p:nvPr/>
        </p:nvSpPr>
        <p:spPr>
          <a:xfrm>
            <a:off x="457200" y="35712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ые разработки доходной базы бюджета сельского поселения осуществляются с учетом основных направлений налоговой и бюджетной политики на прогнозируемый период в соответствии с главой 9 Бюджетного кодекса Российской Федерации «Доходы местных бюджетов» и статьями 173 «Прогноз социально-экономического развития», 174.1 «Прогнозирование доходов бюджет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пределения доходов бюджета сельского поселения используются показатели прогноза социально-экономического развития поселения, составляемые администрацией по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Номер слайда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D2E9-1A58-464B-BA66-C5D8932D5C8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 txBox="1"/>
          <p:nvPr/>
        </p:nvSpPr>
        <p:spPr>
          <a:xfrm>
            <a:off x="285840" y="214200"/>
            <a:ext cx="84009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ные разработки по каждому виду доходов производятся главными администраторами доходов бюджета поселения на базе сложившейся динамики их поступлений, ожидаемой оценки доходов в текущем году, задолженности по налогам, а также налогооблагаемой базы, прогнозируемой на 3 года: прибыли, фонда оплаты труда, темпов роста (снижения) объемов производства, стоимости имущества, кадастровой стоимости земли, заключенных договоров на передачу в аренду имущества муниципальной собственности, действующих ставок по налоговым и неналоговым платежам, а также экономических темпов инфляции, базовым из которых является индекс роста потребительских ц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Номер слайда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875D-B49B-456E-B3FC-6DE9CDD389F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c7e7"/>
            </a:gs>
            <a:gs pos="100000">
              <a:srgbClr val="e1ecfb"/>
            </a:gs>
          </a:gsLst>
          <a:lin ang="1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gradFill rotWithShape="0">
            <a:gsLst>
              <a:gs pos="0">
                <a:srgbClr val="c5e0b4"/>
              </a:gs>
              <a:gs pos="100000">
                <a:srgbClr val="e1ecfb"/>
              </a:gs>
            </a:gsLst>
            <a:lin ang="18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 бюдж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Номер слайда 14"/>
          <p:cNvSpPr/>
          <p:nvPr/>
        </p:nvSpPr>
        <p:spPr>
          <a:xfrm>
            <a:off x="8675640" y="6492960"/>
            <a:ext cx="371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BE30-623E-4858-A1EF-113155AF48A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TextBox 2"/>
          <p:cNvSpPr/>
          <p:nvPr/>
        </p:nvSpPr>
        <p:spPr>
          <a:xfrm>
            <a:off x="1692360" y="72720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 бюджета – безвозмездные и безвозвратные поступления денежных средств в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Прямая соединительная линия 4"/>
          <p:cNvSpPr/>
          <p:nvPr/>
        </p:nvSpPr>
        <p:spPr>
          <a:xfrm flipV="1">
            <a:off x="1727280" y="1341000"/>
            <a:ext cx="5400720" cy="12600"/>
          </a:xfrm>
          <a:prstGeom prst="line">
            <a:avLst/>
          </a:prstGeom>
          <a:ln w="255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Прямая соединительная линия 11"/>
          <p:cNvSpPr/>
          <p:nvPr/>
        </p:nvSpPr>
        <p:spPr>
          <a:xfrm>
            <a:off x="4276800" y="1328760"/>
            <a:ext cx="0" cy="344520"/>
          </a:xfrm>
          <a:prstGeom prst="line">
            <a:avLst/>
          </a:prstGeom>
          <a:ln w="255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Прямая соединительная линия 12"/>
          <p:cNvSpPr/>
          <p:nvPr/>
        </p:nvSpPr>
        <p:spPr>
          <a:xfrm>
            <a:off x="7128000" y="1357200"/>
            <a:ext cx="0" cy="376200"/>
          </a:xfrm>
          <a:prstGeom prst="line">
            <a:avLst/>
          </a:prstGeom>
          <a:ln w="255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Прямая соединительная линия 13"/>
          <p:cNvSpPr/>
          <p:nvPr/>
        </p:nvSpPr>
        <p:spPr>
          <a:xfrm>
            <a:off x="1727280" y="1338120"/>
            <a:ext cx="0" cy="362160"/>
          </a:xfrm>
          <a:prstGeom prst="line">
            <a:avLst/>
          </a:prstGeom>
          <a:ln w="255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TextBox 20"/>
          <p:cNvSpPr/>
          <p:nvPr/>
        </p:nvSpPr>
        <p:spPr>
          <a:xfrm>
            <a:off x="179280" y="1733400"/>
            <a:ext cx="2468520" cy="307080"/>
          </a:xfrm>
          <a:prstGeom prst="rect">
            <a:avLst/>
          </a:prstGeom>
          <a:solidFill>
            <a:srgbClr val="dfe26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ОВЫЕ ДОХ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TextBox 21"/>
          <p:cNvSpPr/>
          <p:nvPr/>
        </p:nvSpPr>
        <p:spPr>
          <a:xfrm>
            <a:off x="2843280" y="1700280"/>
            <a:ext cx="2970000" cy="307080"/>
          </a:xfrm>
          <a:prstGeom prst="rect">
            <a:avLst/>
          </a:prstGeom>
          <a:solidFill>
            <a:srgbClr val="5ee2f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ЛОГОВЫЕ ДОХ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TextBox 22"/>
          <p:cNvSpPr/>
          <p:nvPr/>
        </p:nvSpPr>
        <p:spPr>
          <a:xfrm>
            <a:off x="5940360" y="1733400"/>
            <a:ext cx="2772000" cy="580680"/>
          </a:xfrm>
          <a:prstGeom prst="rect">
            <a:avLst/>
          </a:prstGeom>
          <a:solidFill>
            <a:srgbClr val="3cd87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ВОЗМЕЗДНЫЕ ПОСТУП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TextBox 23"/>
          <p:cNvSpPr/>
          <p:nvPr/>
        </p:nvSpPr>
        <p:spPr>
          <a:xfrm>
            <a:off x="5940360" y="2349360"/>
            <a:ext cx="2772000" cy="4231080"/>
          </a:xfrm>
          <a:prstGeom prst="rect">
            <a:avLst/>
          </a:prstGeom>
          <a:solidFill>
            <a:srgbClr val="afebb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ления от других бюджетов (межбюджетные трансферты), спонсорская помощь от организаций и гражд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TextBox 24"/>
          <p:cNvSpPr/>
          <p:nvPr/>
        </p:nvSpPr>
        <p:spPr>
          <a:xfrm>
            <a:off x="2843280" y="2008080"/>
            <a:ext cx="2970000" cy="3501000"/>
          </a:xfrm>
          <a:prstGeom prst="rect">
            <a:avLst/>
          </a:prstGeom>
          <a:solidFill>
            <a:srgbClr val="bef4f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ления от уплаты платежей, установленных законодательством Российской Федерации, а также штрафов за нарушение законодательства, на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 от использования муниципального имуще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а за негативное воздействие на окружающую сред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ы за нарушение законодатель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TextBox 25"/>
          <p:cNvSpPr/>
          <p:nvPr/>
        </p:nvSpPr>
        <p:spPr>
          <a:xfrm>
            <a:off x="179280" y="2041560"/>
            <a:ext cx="2468520" cy="4474440"/>
          </a:xfrm>
          <a:prstGeom prst="rect">
            <a:avLst/>
          </a:prstGeom>
          <a:solidFill>
            <a:srgbClr val="f5f8c8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 на доходы физических лиц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ый сельскохозяйственный налог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ельный налог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 на имущество физических лиц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з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Прямоугольник 18"/>
          <p:cNvSpPr/>
          <p:nvPr/>
        </p:nvSpPr>
        <p:spPr>
          <a:xfrm>
            <a:off x="8786880" y="6581880"/>
            <a:ext cx="3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93BD-058B-4B9A-95E1-AAA7DE9AEE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1" name=""/>
          <p:cNvGraphicFramePr/>
          <p:nvPr/>
        </p:nvGraphicFramePr>
        <p:xfrm>
          <a:off x="-36360" y="260280"/>
          <a:ext cx="9180360" cy="4037040"/>
        </p:xfrm>
        <a:graphic>
          <a:graphicData uri="http://schemas.openxmlformats.org/drawingml/2006/table">
            <a:tbl>
              <a:tblPr/>
              <a:tblGrid>
                <a:gridCol w="5400360"/>
                <a:gridCol w="1152720"/>
                <a:gridCol w="934920"/>
                <a:gridCol w="865440"/>
                <a:gridCol w="826920"/>
              </a:tblGrid>
              <a:tr h="5806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дения об исполнении бюджета сельского поселения за 2021 год по налоговым и неналоговым доход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f6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 решением с изменен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испол-н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-ния (+, -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и не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</a:tr>
              <a:tr h="40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 сельскохозяйственный на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, получаемые в виде арендной платы за земельные учас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TextBox 3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gradFill rotWithShape="0">
            <a:gsLst>
              <a:gs pos="0">
                <a:srgbClr val="c5e0b4"/>
              </a:gs>
              <a:gs pos="100000">
                <a:srgbClr val="ffebfa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БЮДЖЕТНЫЕ ТРАНСФЕРТЫ – ОСНОВНОЙ ВИД БЕЗВОЗМЕЗДНЫХ ПЕРЕЧИС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TextBox 4"/>
          <p:cNvSpPr/>
          <p:nvPr/>
        </p:nvSpPr>
        <p:spPr>
          <a:xfrm>
            <a:off x="324000" y="939960"/>
            <a:ext cx="849600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бюджетные трансферты – денежные средства, перечисляемые из одного бюджета бюджетной системы Российской Федерации друг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TextBox 5"/>
          <p:cNvSpPr/>
          <p:nvPr/>
        </p:nvSpPr>
        <p:spPr>
          <a:xfrm>
            <a:off x="250920" y="180324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межбюджетных трансфер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Box 6"/>
          <p:cNvSpPr/>
          <p:nvPr/>
        </p:nvSpPr>
        <p:spPr>
          <a:xfrm>
            <a:off x="3743280" y="192420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TextBox 7"/>
          <p:cNvSpPr/>
          <p:nvPr/>
        </p:nvSpPr>
        <p:spPr>
          <a:xfrm>
            <a:off x="6372360" y="180324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ия в семейном бюдже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TextBox 8"/>
          <p:cNvSpPr/>
          <p:nvPr/>
        </p:nvSpPr>
        <p:spPr>
          <a:xfrm>
            <a:off x="237960" y="2454120"/>
            <a:ext cx="2830680" cy="1310760"/>
          </a:xfrm>
          <a:prstGeom prst="rect">
            <a:avLst/>
          </a:prstGeom>
          <a:solidFill>
            <a:srgbClr val="d6dc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тации (от лат. «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ation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, пожертв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TextBox 9"/>
          <p:cNvSpPr/>
          <p:nvPr/>
        </p:nvSpPr>
        <p:spPr>
          <a:xfrm>
            <a:off x="260280" y="3780000"/>
            <a:ext cx="2808360" cy="155412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венции (от лат. «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venire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)- приходить на помощ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TextBox 10"/>
          <p:cNvSpPr/>
          <p:nvPr/>
        </p:nvSpPr>
        <p:spPr>
          <a:xfrm>
            <a:off x="268200" y="5362560"/>
            <a:ext cx="2792520" cy="13107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сидии (от лат. «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idium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) - поддерж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TextBox 11"/>
          <p:cNvSpPr/>
          <p:nvPr/>
        </p:nvSpPr>
        <p:spPr>
          <a:xfrm>
            <a:off x="3059280" y="2449440"/>
            <a:ext cx="2992320" cy="1310760"/>
          </a:xfrm>
          <a:prstGeom prst="rect">
            <a:avLst/>
          </a:prstGeom>
          <a:solidFill>
            <a:srgbClr val="d6dc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ются без определения конкретной цели их исполь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TextBox 12"/>
          <p:cNvSpPr/>
          <p:nvPr/>
        </p:nvSpPr>
        <p:spPr>
          <a:xfrm>
            <a:off x="3027240" y="3780000"/>
            <a:ext cx="3024360" cy="155412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ются на финансирование «переданных» другим публично-правовым образованиям полномоч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TextBox 13"/>
          <p:cNvSpPr/>
          <p:nvPr/>
        </p:nvSpPr>
        <p:spPr>
          <a:xfrm>
            <a:off x="3052800" y="5354640"/>
            <a:ext cx="3058920" cy="13107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ются на условиях долевого софинансирования расходов других бюдж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TextBox 14"/>
          <p:cNvSpPr/>
          <p:nvPr/>
        </p:nvSpPr>
        <p:spPr>
          <a:xfrm>
            <a:off x="6051600" y="2446200"/>
            <a:ext cx="2790720" cy="1310760"/>
          </a:xfrm>
          <a:prstGeom prst="rect">
            <a:avLst/>
          </a:prstGeom>
          <a:solidFill>
            <a:srgbClr val="d6dc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даете своему ребенку карманные день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TextBox 15"/>
          <p:cNvSpPr/>
          <p:nvPr/>
        </p:nvSpPr>
        <p:spPr>
          <a:xfrm>
            <a:off x="6051600" y="3768840"/>
            <a:ext cx="2781360" cy="161748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даете своему ребенку деньги и посылаете его в магазин купить продукты (по списк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TextBox 16"/>
          <p:cNvSpPr/>
          <p:nvPr/>
        </p:nvSpPr>
        <p:spPr>
          <a:xfrm>
            <a:off x="6076800" y="5354640"/>
            <a:ext cx="2743200" cy="13107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«добавляете» денег для того, чтобы ребенок купил себе новый телефон (а остальные он накопил са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Номер слайда 17"/>
          <p:cNvSpPr/>
          <p:nvPr/>
        </p:nvSpPr>
        <p:spPr>
          <a:xfrm>
            <a:off x="8774280" y="6492960"/>
            <a:ext cx="36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6231-EB30-44A7-B1B0-9BFBA2335D4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Прямоугольник 18"/>
          <p:cNvSpPr/>
          <p:nvPr/>
        </p:nvSpPr>
        <p:spPr>
          <a:xfrm>
            <a:off x="8786880" y="6581880"/>
            <a:ext cx="3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6572-B37F-462A-837B-B825F43276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8" name=""/>
          <p:cNvGraphicFramePr/>
          <p:nvPr/>
        </p:nvGraphicFramePr>
        <p:xfrm>
          <a:off x="108000" y="549360"/>
          <a:ext cx="9036000" cy="3722760"/>
        </p:xfrm>
        <a:graphic>
          <a:graphicData uri="http://schemas.openxmlformats.org/drawingml/2006/table">
            <a:tbl>
              <a:tblPr/>
              <a:tblGrid>
                <a:gridCol w="5300640"/>
                <a:gridCol w="1139760"/>
                <a:gridCol w="924120"/>
                <a:gridCol w="853920"/>
                <a:gridCol w="817560"/>
              </a:tblGrid>
              <a:tr h="5806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дения об исполнении бюджета сельского поселения за 2021 год по безвозмездным поступлен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f6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 решением с изменен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испол-н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-ния (+, -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9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3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тации бюджетам сельских поселений на выравнивание бюджетной обеспеч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субсидии бюджетам сельских пос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бюджетам сельских поселений на осуществление первичного воинского у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</a:tr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TextBox 2"/>
          <p:cNvSpPr/>
          <p:nvPr/>
        </p:nvSpPr>
        <p:spPr>
          <a:xfrm>
            <a:off x="1371600" y="115920"/>
            <a:ext cx="730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Бюджетный процесс – ежегодное формирование и исполнение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Овал 5"/>
          <p:cNvSpPr/>
          <p:nvPr/>
        </p:nvSpPr>
        <p:spPr>
          <a:xfrm>
            <a:off x="520560" y="1122480"/>
            <a:ext cx="648000" cy="576000"/>
          </a:xfrm>
          <a:prstGeom prst="ellipse">
            <a:avLst/>
          </a:prstGeom>
          <a:solidFill>
            <a:srgbClr val="a9d18e"/>
          </a:solidFill>
          <a:ln w="1260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Овал 11"/>
          <p:cNvSpPr/>
          <p:nvPr/>
        </p:nvSpPr>
        <p:spPr>
          <a:xfrm>
            <a:off x="622440" y="1920960"/>
            <a:ext cx="647640" cy="576000"/>
          </a:xfrm>
          <a:prstGeom prst="ellipse">
            <a:avLst/>
          </a:prstGeom>
          <a:solidFill>
            <a:srgbClr val="a9d18e"/>
          </a:solidFill>
          <a:ln w="1260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Овал 12"/>
          <p:cNvSpPr/>
          <p:nvPr/>
        </p:nvSpPr>
        <p:spPr>
          <a:xfrm>
            <a:off x="638280" y="2727360"/>
            <a:ext cx="649080" cy="574560"/>
          </a:xfrm>
          <a:prstGeom prst="ellipse">
            <a:avLst/>
          </a:prstGeom>
          <a:solidFill>
            <a:srgbClr val="a9d18e"/>
          </a:solidFill>
          <a:ln w="1260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Овал 13"/>
          <p:cNvSpPr/>
          <p:nvPr/>
        </p:nvSpPr>
        <p:spPr>
          <a:xfrm>
            <a:off x="723960" y="3559320"/>
            <a:ext cx="647640" cy="574560"/>
          </a:xfrm>
          <a:prstGeom prst="ellipse">
            <a:avLst/>
          </a:prstGeom>
          <a:solidFill>
            <a:srgbClr val="a9d18e"/>
          </a:solidFill>
          <a:ln w="1260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Овал 14"/>
          <p:cNvSpPr/>
          <p:nvPr/>
        </p:nvSpPr>
        <p:spPr>
          <a:xfrm>
            <a:off x="844560" y="4400640"/>
            <a:ext cx="647640" cy="576000"/>
          </a:xfrm>
          <a:prstGeom prst="ellipse">
            <a:avLst/>
          </a:prstGeom>
          <a:solidFill>
            <a:srgbClr val="a9d18e"/>
          </a:solidFill>
          <a:ln w="1260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Овал 15"/>
          <p:cNvSpPr/>
          <p:nvPr/>
        </p:nvSpPr>
        <p:spPr>
          <a:xfrm>
            <a:off x="911160" y="5295960"/>
            <a:ext cx="647640" cy="576360"/>
          </a:xfrm>
          <a:prstGeom prst="ellipse">
            <a:avLst/>
          </a:prstGeom>
          <a:solidFill>
            <a:srgbClr val="a9d18e"/>
          </a:solidFill>
          <a:ln w="1260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TextBox 16"/>
          <p:cNvSpPr/>
          <p:nvPr/>
        </p:nvSpPr>
        <p:spPr>
          <a:xfrm>
            <a:off x="1484280" y="2655720"/>
            <a:ext cx="70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е бюджета очередного года (законодательные, представительные органы вла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TextBox 17"/>
          <p:cNvSpPr/>
          <p:nvPr/>
        </p:nvSpPr>
        <p:spPr>
          <a:xfrm>
            <a:off x="1562040" y="3467160"/>
            <a:ext cx="75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в текущем году (органы исполнительной власти;  местная администрация, финансовые орга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TextBox 18"/>
          <p:cNvSpPr/>
          <p:nvPr/>
        </p:nvSpPr>
        <p:spPr>
          <a:xfrm>
            <a:off x="1571760" y="4327560"/>
            <a:ext cx="74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тчета об исполнении бюджета предыдущего года (органы исполнительной вла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TextBox 19"/>
          <p:cNvSpPr/>
          <p:nvPr/>
        </p:nvSpPr>
        <p:spPr>
          <a:xfrm>
            <a:off x="1601640" y="5229360"/>
            <a:ext cx="699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е отчета об исполнении бюджета предыдущего года (законодательные, представительные органы вла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TextBox 20"/>
          <p:cNvSpPr/>
          <p:nvPr/>
        </p:nvSpPr>
        <p:spPr>
          <a:xfrm>
            <a:off x="1235160" y="1052640"/>
            <a:ext cx="745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роекта бюджета очередного года (органы исполнительной вла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TextBox 21"/>
          <p:cNvSpPr/>
          <p:nvPr/>
        </p:nvSpPr>
        <p:spPr>
          <a:xfrm>
            <a:off x="1390680" y="18478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ние проекта бюджета очередного года (законодательные, представительные органы вла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Выгнутая вправо стрелка 26"/>
          <p:cNvSpPr/>
          <p:nvPr/>
        </p:nvSpPr>
        <p:spPr>
          <a:xfrm rot="10800000">
            <a:off x="178920" y="1235160"/>
            <a:ext cx="731880" cy="4532400"/>
          </a:xfrm>
          <a:custGeom>
            <a:avLst/>
            <a:gdLst>
              <a:gd name="textAreaLeft" fmla="*/ 97920 w 731880"/>
              <a:gd name="textAreaRight" fmla="*/ 633960 w 731880"/>
              <a:gd name="textAreaTop" fmla="*/ 1059480 h 4532400"/>
              <a:gd name="textAreaBottom" fmla="*/ 3400560 h 453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101" stAng="-5400000" swAng="5400000"/>
                <a:lnTo>
                  <a:pt x="21600" y="11155"/>
                </a:lnTo>
                <a:arcTo wR="21600" hR="10101" stAng="0" swAng="3665656"/>
                <a:lnTo>
                  <a:pt x="5400" y="21279"/>
                </a:lnTo>
                <a:lnTo>
                  <a:pt x="0" y="20728"/>
                </a:lnTo>
                <a:lnTo>
                  <a:pt x="5400" y="19535"/>
                </a:lnTo>
                <a:lnTo>
                  <a:pt x="5400" y="19880"/>
                </a:lnTo>
                <a:arcTo wR="21600" hR="10101" stAng="3665656" swAng="-3581683"/>
                <a:lnTo>
                  <a:pt x="21571" y="10628"/>
                </a:lnTo>
                <a:arcTo wR="21600" hR="10101" stAng="-83972" swAng="-5316028"/>
                <a:close/>
              </a:path>
              <a:path fill="darkenLess" w="21600" h="21600">
                <a:moveTo>
                  <a:pt x="0" y="0"/>
                </a:moveTo>
                <a:arcTo wR="21600" hR="10101" stAng="-5400000" swAng="5400000"/>
                <a:lnTo>
                  <a:pt x="21600" y="11155"/>
                </a:lnTo>
                <a:arcTo wR="21600" hR="10101" stAng="0" swAng="-83972"/>
                <a:lnTo>
                  <a:pt x="21571" y="10628"/>
                </a:lnTo>
                <a:arcTo wR="21600" hR="10101" stAng="-83972" swAng="-5316028"/>
                <a:close/>
              </a:path>
            </a:pathLst>
          </a:custGeom>
          <a:solidFill>
            <a:srgbClr val="ffe699"/>
          </a:solidFill>
          <a:ln w="12600">
            <a:solidFill>
              <a:srgbClr val="ffe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Вертикальный свиток 2"/>
          <p:cNvSpPr/>
          <p:nvPr/>
        </p:nvSpPr>
        <p:spPr>
          <a:xfrm>
            <a:off x="3240" y="189000"/>
            <a:ext cx="9144000" cy="6192720"/>
          </a:xfrm>
          <a:prstGeom prst="verticalScroll">
            <a:avLst>
              <a:gd name="adj" fmla="val 125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важаемые жители Илек-Пеньковского сельского поселени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ашему вниманию предлагается исполнение бюджета Графовского сельского поселения за 20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1 год в форме презентационного матер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 настоящее время обеспечение открытости и прозрачности бюджетного процесса является одним из ключевых направлений деятельности органов местного самоуправления. Для того, чтобы каждый житель сельского поселения мог получить информацию о бюджете нашего поселения, решение об исполнении бюджета размещено на официальном сайте органов местного самоуправления муниципального района. Мы постарались доступно отразить основные параметры исполнения бюджета Илек-Пеньковского сельского поселения за 2021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A096-FDF7-4AD6-83DD-FA0345004C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Прямоугольник 2"/>
          <p:cNvSpPr/>
          <p:nvPr/>
        </p:nvSpPr>
        <p:spPr>
          <a:xfrm>
            <a:off x="324000" y="260280"/>
            <a:ext cx="8640720" cy="28908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классифицируются расходы бюдже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Прямоугольник 3"/>
          <p:cNvSpPr/>
          <p:nvPr/>
        </p:nvSpPr>
        <p:spPr>
          <a:xfrm>
            <a:off x="324000" y="620640"/>
            <a:ext cx="8640720" cy="252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– выплачиваемые из бюджета денежные сре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Формирование расходов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существляется в соответствии с расходными обязательствами, обусловленными установленным законодательством разграничением полномочий, исполнение которых должно происходить в очередном финансовом году за счет средств соответствующих бюдже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инципы формирования расходов бюдж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 раздел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 ведомств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 государственным программам Белгород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TextBox 4"/>
          <p:cNvSpPr/>
          <p:nvPr/>
        </p:nvSpPr>
        <p:spPr>
          <a:xfrm>
            <a:off x="900000" y="321300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ы классификации расходов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TextBox 20"/>
          <p:cNvSpPr/>
          <p:nvPr/>
        </p:nvSpPr>
        <p:spPr>
          <a:xfrm>
            <a:off x="1042920" y="3716280"/>
            <a:ext cx="187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 «Общегосуда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TextBox 22"/>
          <p:cNvSpPr/>
          <p:nvPr/>
        </p:nvSpPr>
        <p:spPr>
          <a:xfrm>
            <a:off x="1042920" y="443700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 «Националь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он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TextBox 25"/>
          <p:cNvSpPr/>
          <p:nvPr/>
        </p:nvSpPr>
        <p:spPr>
          <a:xfrm>
            <a:off x="1042920" y="4941720"/>
            <a:ext cx="172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 «Националь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охранитель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TextBox 1023"/>
          <p:cNvSpPr/>
          <p:nvPr/>
        </p:nvSpPr>
        <p:spPr>
          <a:xfrm>
            <a:off x="2987640" y="5013360"/>
            <a:ext cx="107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 «Охра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TextBox 1038"/>
          <p:cNvSpPr/>
          <p:nvPr/>
        </p:nvSpPr>
        <p:spPr>
          <a:xfrm>
            <a:off x="2987640" y="429264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 «Жилищн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аль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TextBox 1047"/>
          <p:cNvSpPr/>
          <p:nvPr/>
        </p:nvSpPr>
        <p:spPr>
          <a:xfrm>
            <a:off x="4643280" y="3789360"/>
            <a:ext cx="13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 «Образова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TextBox 1053"/>
          <p:cNvSpPr/>
          <p:nvPr/>
        </p:nvSpPr>
        <p:spPr>
          <a:xfrm>
            <a:off x="4643280" y="407664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 «Культур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ематограф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TextBox 1067"/>
          <p:cNvSpPr/>
          <p:nvPr/>
        </p:nvSpPr>
        <p:spPr>
          <a:xfrm>
            <a:off x="4716360" y="458136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«Социаль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TextBox 1074"/>
          <p:cNvSpPr/>
          <p:nvPr/>
        </p:nvSpPr>
        <p:spPr>
          <a:xfrm>
            <a:off x="4788000" y="5084640"/>
            <a:ext cx="129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«Физичес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и спор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TextBox 1087"/>
          <p:cNvSpPr/>
          <p:nvPr/>
        </p:nvSpPr>
        <p:spPr>
          <a:xfrm>
            <a:off x="6877080" y="3789360"/>
            <a:ext cx="144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«Сред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о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TextBox 1103"/>
          <p:cNvSpPr/>
          <p:nvPr/>
        </p:nvSpPr>
        <p:spPr>
          <a:xfrm>
            <a:off x="6806520" y="4508640"/>
            <a:ext cx="155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«Межбюджет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фер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го характер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Box 1139"/>
          <p:cNvSpPr/>
          <p:nvPr/>
        </p:nvSpPr>
        <p:spPr>
          <a:xfrm>
            <a:off x="2916360" y="3789360"/>
            <a:ext cx="139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 «Националь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Номер слайда 47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03B4-0E8E-4BA9-A014-89AA0DF018B1}" type="slidenum">
              <a:rPr b="0" lang="ru-RU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gradFill rotWithShape="0">
            <a:gsLst>
              <a:gs pos="0">
                <a:srgbClr val="c5e0b4"/>
              </a:gs>
              <a:gs pos="100000">
                <a:srgbClr val="e1ecfb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расходов бюджета </a:t>
            </a: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ек-Пеньковского сельского поселения за 2021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Номер слайда 27"/>
          <p:cNvSpPr/>
          <p:nvPr/>
        </p:nvSpPr>
        <p:spPr>
          <a:xfrm>
            <a:off x="685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1" name=""/>
          <p:cNvGraphicFramePr/>
          <p:nvPr/>
        </p:nvGraphicFramePr>
        <p:xfrm>
          <a:off x="785880" y="1214280"/>
          <a:ext cx="7286400" cy="3062520"/>
        </p:xfrm>
        <a:graphic>
          <a:graphicData uri="http://schemas.openxmlformats.org/drawingml/2006/table">
            <a:tbl>
              <a:tblPr/>
              <a:tblGrid>
                <a:gridCol w="4081320"/>
                <a:gridCol w="1895400"/>
                <a:gridCol w="1309680"/>
              </a:tblGrid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и профинансиров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ельный в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1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3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4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 Е Г 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9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9960"/>
          </a:xfrm>
          <a:prstGeom prst="rect">
            <a:avLst/>
          </a:prstGeom>
          <a:gradFill rotWithShape="0">
            <a:gsLst>
              <a:gs pos="0">
                <a:srgbClr val="c5e0b4"/>
              </a:gs>
              <a:gs pos="100000">
                <a:srgbClr val="e1ecfb"/>
              </a:gs>
            </a:gsLst>
            <a:lin ang="27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TextBox 4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5968"/>
                </a:solidFill>
                <a:latin typeface="Times New Roman"/>
              </a:rPr>
              <a:t>Сведения об исполнении расходов бюджета сельского поселения к первоначальным плановым назначениям за 2021 г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Прямоугольник 14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67FB-7A3C-424D-8389-A331EDE26B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5" name=""/>
          <p:cNvGraphicFramePr/>
          <p:nvPr/>
        </p:nvGraphicFramePr>
        <p:xfrm>
          <a:off x="900000" y="1484280"/>
          <a:ext cx="7215480" cy="2881440"/>
        </p:xfrm>
        <a:graphic>
          <a:graphicData uri="http://schemas.openxmlformats.org/drawingml/2006/table">
            <a:tbl>
              <a:tblPr/>
              <a:tblGrid>
                <a:gridCol w="500040"/>
                <a:gridCol w="2578320"/>
                <a:gridCol w="1092240"/>
                <a:gridCol w="973080"/>
                <a:gridCol w="974520"/>
                <a:gridCol w="1097280"/>
              </a:tblGrid>
              <a:tr h="55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ено на 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лонение (+;-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ис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93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5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4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3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9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Вертикальный свиток 2"/>
          <p:cNvSpPr/>
          <p:nvPr/>
        </p:nvSpPr>
        <p:spPr>
          <a:xfrm>
            <a:off x="0" y="692280"/>
            <a:ext cx="9144000" cy="5976720"/>
          </a:xfrm>
          <a:prstGeom prst="verticalScroll">
            <a:avLst>
              <a:gd name="adj" fmla="val 12500"/>
            </a:avLst>
          </a:prstGeom>
          <a:solidFill>
            <a:srgbClr val="deebf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ЮДЖЕТ – ЭТО ПЛАН ДОХОДОВ И РАС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Каждый житель сельского поселения является участником формирования этого плана с одной стороны как налогоплательщик, наполняя доходы бюджета, с другой – он получает часть расходов как потребитель общественных ус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Государство расходует поступившие доходы для выполнения своих функций и предоставления общественных (государственных) услуг: образование, культура, спорт, социальное обеспечение, поддержка экономики, гарантии безопасности и правопорядка, защита общественных интересов, гражданских прав и свобод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1" name="Заголовок 5" descr=""/>
          <p:cNvPicPr/>
          <p:nvPr/>
        </p:nvPicPr>
        <p:blipFill>
          <a:blip r:embed="rId1"/>
          <a:stretch/>
        </p:blipFill>
        <p:spPr>
          <a:xfrm>
            <a:off x="60480" y="-30240"/>
            <a:ext cx="8364240" cy="1116000"/>
          </a:xfrm>
          <a:prstGeom prst="rect">
            <a:avLst/>
          </a:prstGeom>
          <a:ln w="0">
            <a:noFill/>
          </a:ln>
        </p:spPr>
      </p:pic>
      <p:sp>
        <p:nvSpPr>
          <p:cNvPr id="1512" name="Номер слайда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C352-9E68-4BA0-BB50-166A0ED5D0C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Вертикальный свиток 2"/>
          <p:cNvSpPr/>
          <p:nvPr/>
        </p:nvSpPr>
        <p:spPr>
          <a:xfrm>
            <a:off x="3240" y="189000"/>
            <a:ext cx="9144000" cy="6192720"/>
          </a:xfrm>
          <a:prstGeom prst="verticalScroll">
            <a:avLst>
              <a:gd name="adj" fmla="val 12500"/>
            </a:avLst>
          </a:prstGeom>
          <a:solidFill>
            <a:srgbClr val="deebf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bf9000"/>
                </a:solidFill>
                <a:uFillTx/>
                <a:latin typeface="Times New Roman"/>
                <a:ea typeface="Times New Roman"/>
              </a:rPr>
              <a:t>Доходы бюджета </a:t>
            </a:r>
            <a:r>
              <a:rPr b="1" i="1" lang="ru-RU" sz="2200" spc="-1" strike="noStrike">
                <a:solidFill>
                  <a:srgbClr val="bf9000"/>
                </a:solidFill>
                <a:latin typeface="Times New Roman"/>
                <a:ea typeface="Times New Roman"/>
              </a:rPr>
              <a:t>  </a:t>
            </a: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поступающие в бюджет денежные сре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bf9000"/>
                </a:solidFill>
                <a:uFillTx/>
                <a:latin typeface="Times New Roman"/>
                <a:ea typeface="Times New Roman"/>
              </a:rPr>
              <a:t>Расходы бюджета</a:t>
            </a:r>
            <a:r>
              <a:rPr b="1" i="1" lang="ru-RU" sz="2200" spc="-1" strike="noStrike">
                <a:solidFill>
                  <a:srgbClr val="bf9000"/>
                </a:solidFill>
                <a:latin typeface="Times New Roman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выплачиваемые из бюджета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енежные сре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bf9000"/>
                </a:solidFill>
                <a:uFillTx/>
                <a:latin typeface="Times New Roman"/>
                <a:ea typeface="Times New Roman"/>
              </a:rPr>
              <a:t>Дефицит бюджета</a:t>
            </a:r>
            <a:r>
              <a:rPr b="1" i="1" lang="ru-RU" sz="2200" spc="-1" strike="noStrike">
                <a:solidFill>
                  <a:srgbClr val="bf9000"/>
                </a:solidFill>
                <a:latin typeface="Times New Roman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превышение расходов бюджета над его доход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bf9000"/>
                </a:solidFill>
                <a:uFillTx/>
                <a:latin typeface="Times New Roman"/>
                <a:ea typeface="Times New Roman"/>
              </a:rPr>
              <a:t>Профицит бюджета </a:t>
            </a:r>
            <a:r>
              <a:rPr b="1" i="1" lang="ru-RU" sz="2200" spc="-1" strike="noStrike">
                <a:solidFill>
                  <a:srgbClr val="bf9000"/>
                </a:solidFill>
                <a:latin typeface="Times New Roman"/>
                <a:ea typeface="Times New Roman"/>
              </a:rPr>
              <a:t>     </a:t>
            </a: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превышение доходов над его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сход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bf9000"/>
                </a:solidFill>
                <a:uFillTx/>
                <a:latin typeface="Times New Roman"/>
                <a:ea typeface="Times New Roman"/>
              </a:rPr>
              <a:t>Бюджетные обязательства</a:t>
            </a:r>
            <a:r>
              <a:rPr b="1" i="1" lang="ru-RU" sz="2200" spc="-1" strike="noStrike">
                <a:solidFill>
                  <a:srgbClr val="bf9000"/>
                </a:solidFill>
                <a:latin typeface="Times New Roman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расходные обязательства, подлежащие исполнению в соответствующем финансовом го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80BF-FC43-42A2-970E-A1F14005409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Вертикальный свиток 2"/>
          <p:cNvSpPr/>
          <p:nvPr/>
        </p:nvSpPr>
        <p:spPr>
          <a:xfrm>
            <a:off x="0" y="189000"/>
            <a:ext cx="9144000" cy="6335640"/>
          </a:xfrm>
          <a:prstGeom prst="verticalScroll">
            <a:avLst>
              <a:gd name="adj" fmla="val 12500"/>
            </a:avLst>
          </a:prstGeom>
          <a:solidFill>
            <a:srgbClr val="deebf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ЮДЖЕТ ГОСУДАРСТВА – ЭТО ПЛАН НЕОБХОДИМЫХ ОБЩЕСТВУ РАСХОДОВ И ПРЕДПОЛАГАЕМЫХ ИСТОЧНИКОВ ДОХОДОВ  ДЛЯ ИХ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bf9000"/>
                </a:solidFill>
                <a:latin typeface="Times New Roman"/>
                <a:ea typeface="Times New Roman"/>
              </a:rPr>
              <a:t>Размер расходов, как правило, определяется уровнем доходов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bf9000"/>
                </a:solidFill>
                <a:latin typeface="Times New Roman"/>
                <a:ea typeface="Times New Roman"/>
              </a:rPr>
              <a:t>Доходы же в большинстве случаев ограничены, по сравнению с потребностям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bf9000"/>
                </a:solidFill>
                <a:latin typeface="Times New Roman"/>
                <a:ea typeface="Times New Roman"/>
              </a:rPr>
              <a:t>В случае нехватки ресурсов для покрытия потребностей планируются источники заимствований или сокращаются расходы, а при превышении доходов над расходами планируются сферы вложения излишков ресурс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B585-7D2D-4BED-9772-50FE83202DF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Скругленный прямоугольник 2"/>
          <p:cNvSpPr/>
          <p:nvPr/>
        </p:nvSpPr>
        <p:spPr>
          <a:xfrm>
            <a:off x="71280" y="115920"/>
            <a:ext cx="8929800" cy="655308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12600">
            <a:solidFill>
              <a:srgbClr val="7f6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TextBox 3"/>
          <p:cNvSpPr/>
          <p:nvPr/>
        </p:nvSpPr>
        <p:spPr>
          <a:xfrm>
            <a:off x="250920" y="404640"/>
            <a:ext cx="85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позволяет государству регулировать условия развития экономики (распределение доходов, потребление, сбережение и др.) и влиять на социально-экономические процессы в обществ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щие цели экономической политики, которые достигаются с помощью бюдже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9" name="Схема 4" descr=""/>
          <p:cNvPicPr/>
          <p:nvPr/>
        </p:nvPicPr>
        <p:blipFill>
          <a:blip r:embed="rId1"/>
          <a:stretch/>
        </p:blipFill>
        <p:spPr>
          <a:xfrm>
            <a:off x="92160" y="2054160"/>
            <a:ext cx="8893080" cy="4548240"/>
          </a:xfrm>
          <a:prstGeom prst="rect">
            <a:avLst/>
          </a:prstGeom>
          <a:ln w="0">
            <a:noFill/>
          </a:ln>
        </p:spPr>
      </p:pic>
      <p:sp>
        <p:nvSpPr>
          <p:cNvPr id="1520" name="Номер слайда 5"/>
          <p:cNvSpPr/>
          <p:nvPr/>
        </p:nvSpPr>
        <p:spPr>
          <a:xfrm>
            <a:off x="8604360" y="6381720"/>
            <a:ext cx="36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F5A6-557D-4408-B652-876D1598614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Скругленный прямоугольник 2"/>
          <p:cNvSpPr/>
          <p:nvPr/>
        </p:nvSpPr>
        <p:spPr>
          <a:xfrm>
            <a:off x="34920" y="115920"/>
            <a:ext cx="9074160" cy="6626160"/>
          </a:xfrm>
          <a:prstGeom prst="roundRect">
            <a:avLst>
              <a:gd name="adj" fmla="val 16667"/>
            </a:avLst>
          </a:prstGeom>
          <a:solidFill>
            <a:srgbClr val="ccffff">
              <a:alpha val="74000"/>
            </a:srgbClr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Блок-схема: процесс 3"/>
          <p:cNvSpPr/>
          <p:nvPr/>
        </p:nvSpPr>
        <p:spPr>
          <a:xfrm>
            <a:off x="2124000" y="333360"/>
            <a:ext cx="4680000" cy="863640"/>
          </a:xfrm>
          <a:prstGeom prst="flowChartProcess">
            <a:avLst/>
          </a:prstGeom>
          <a:solidFill>
            <a:srgbClr val="008080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бывают бюдж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Прямоугольник 4"/>
          <p:cNvSpPr/>
          <p:nvPr/>
        </p:nvSpPr>
        <p:spPr>
          <a:xfrm>
            <a:off x="401760" y="1781280"/>
            <a:ext cx="1987560" cy="15336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юджеты сем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Прямоугольник 5"/>
          <p:cNvSpPr/>
          <p:nvPr/>
        </p:nvSpPr>
        <p:spPr>
          <a:xfrm>
            <a:off x="3132000" y="1781280"/>
            <a:ext cx="2592360" cy="1698480"/>
          </a:xfrm>
          <a:prstGeom prst="rect">
            <a:avLst/>
          </a:prstGeom>
          <a:solidFill>
            <a:srgbClr val="008080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юджеты публично-правовых образова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Прямоугольник 6"/>
          <p:cNvSpPr/>
          <p:nvPr/>
        </p:nvSpPr>
        <p:spPr>
          <a:xfrm>
            <a:off x="6372360" y="1781280"/>
            <a:ext cx="2160360" cy="15336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юджеты организ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Прямоугольник 7"/>
          <p:cNvSpPr/>
          <p:nvPr/>
        </p:nvSpPr>
        <p:spPr>
          <a:xfrm>
            <a:off x="401760" y="4065480"/>
            <a:ext cx="2585880" cy="2316240"/>
          </a:xfrm>
          <a:prstGeom prst="rect">
            <a:avLst/>
          </a:prstGeom>
          <a:solidFill>
            <a:srgbClr val="008080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сийской Федерации (федеральный бюджет, бюджеты государственных внебюджетных фондов Российской Федер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Прямоугольник 8"/>
          <p:cNvSpPr/>
          <p:nvPr/>
        </p:nvSpPr>
        <p:spPr>
          <a:xfrm>
            <a:off x="3276720" y="4065480"/>
            <a:ext cx="2808000" cy="2316240"/>
          </a:xfrm>
          <a:prstGeom prst="rect">
            <a:avLst/>
          </a:prstGeom>
          <a:solidFill>
            <a:srgbClr val="008080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бъектов Российской Федерации (региональные бюджеты, бюджеты территориальных фондов обязательного медицинского страхов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Прямоугольник 9"/>
          <p:cNvSpPr/>
          <p:nvPr/>
        </p:nvSpPr>
        <p:spPr>
          <a:xfrm>
            <a:off x="6394320" y="4065480"/>
            <a:ext cx="2354400" cy="2243160"/>
          </a:xfrm>
          <a:prstGeom prst="rect">
            <a:avLst/>
          </a:prstGeom>
          <a:solidFill>
            <a:srgbClr val="008080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ых образ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местные бюдже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Стрелка вправо 10"/>
          <p:cNvSpPr/>
          <p:nvPr/>
        </p:nvSpPr>
        <p:spPr>
          <a:xfrm rot="6291600">
            <a:off x="1706760" y="1238760"/>
            <a:ext cx="314280" cy="503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80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Стрелка вправо 11"/>
          <p:cNvSpPr/>
          <p:nvPr/>
        </p:nvSpPr>
        <p:spPr>
          <a:xfrm rot="4050000">
            <a:off x="6778080" y="1235160"/>
            <a:ext cx="324000" cy="504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80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Стрелка вправо 12"/>
          <p:cNvSpPr/>
          <p:nvPr/>
        </p:nvSpPr>
        <p:spPr>
          <a:xfrm rot="5400000">
            <a:off x="4041000" y="1173960"/>
            <a:ext cx="301680" cy="503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80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Стрелка вправо 13"/>
          <p:cNvSpPr/>
          <p:nvPr/>
        </p:nvSpPr>
        <p:spPr>
          <a:xfrm rot="7450800">
            <a:off x="2593440" y="3313080"/>
            <a:ext cx="449280" cy="50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80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Стрелка вправо 14"/>
          <p:cNvSpPr/>
          <p:nvPr/>
        </p:nvSpPr>
        <p:spPr>
          <a:xfrm rot="5400000">
            <a:off x="4286160" y="3497400"/>
            <a:ext cx="355680" cy="504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80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Стрелка вправо 15"/>
          <p:cNvSpPr/>
          <p:nvPr/>
        </p:nvSpPr>
        <p:spPr>
          <a:xfrm rot="2478600">
            <a:off x="5894280" y="3338280"/>
            <a:ext cx="379440" cy="503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80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Номер слайда 16"/>
          <p:cNvSpPr/>
          <p:nvPr/>
        </p:nvSpPr>
        <p:spPr>
          <a:xfrm>
            <a:off x="8675640" y="6381720"/>
            <a:ext cx="371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34D9-44B5-46AC-BA71-4FDF1251851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6" name="Picture 26" descr="KrqdYpplk9I"/>
          <p:cNvPicPr/>
          <p:nvPr/>
        </p:nvPicPr>
        <p:blipFill>
          <a:blip r:embed="rId1"/>
          <a:stretch/>
        </p:blipFill>
        <p:spPr>
          <a:xfrm>
            <a:off x="5508720" y="5445000"/>
            <a:ext cx="1366920" cy="1150920"/>
          </a:xfrm>
          <a:prstGeom prst="rect">
            <a:avLst/>
          </a:prstGeom>
          <a:ln w="0">
            <a:noFill/>
          </a:ln>
        </p:spPr>
      </p:pic>
      <p:pic>
        <p:nvPicPr>
          <p:cNvPr id="1537" name="Picture 30" descr="31216468"/>
          <p:cNvPicPr/>
          <p:nvPr/>
        </p:nvPicPr>
        <p:blipFill>
          <a:blip r:embed="rId2"/>
          <a:stretch/>
        </p:blipFill>
        <p:spPr>
          <a:xfrm>
            <a:off x="0" y="260280"/>
            <a:ext cx="2268360" cy="1557360"/>
          </a:xfrm>
          <a:prstGeom prst="rect">
            <a:avLst/>
          </a:prstGeom>
          <a:ln w="0">
            <a:noFill/>
          </a:ln>
        </p:spPr>
      </p:pic>
      <p:pic>
        <p:nvPicPr>
          <p:cNvPr id="1538" name="Picture 32" descr="commercial_164438872"/>
          <p:cNvPicPr/>
          <p:nvPr/>
        </p:nvPicPr>
        <p:blipFill>
          <a:blip r:embed="rId3"/>
          <a:stretch/>
        </p:blipFill>
        <p:spPr>
          <a:xfrm>
            <a:off x="6948360" y="404640"/>
            <a:ext cx="17161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9" name="Заголовок 1"/>
          <p:cNvGrpSpPr/>
          <p:nvPr/>
        </p:nvGrpSpPr>
        <p:grpSpPr>
          <a:xfrm>
            <a:off x="901800" y="0"/>
            <a:ext cx="8083440" cy="938160"/>
            <a:chOff x="901800" y="0"/>
            <a:chExt cx="8083440" cy="938160"/>
          </a:xfrm>
        </p:grpSpPr>
        <p:pic>
          <p:nvPicPr>
            <p:cNvPr id="154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901800" y="0"/>
              <a:ext cx="808344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1" name=""/>
            <p:cNvSpPr/>
            <p:nvPr/>
          </p:nvSpPr>
          <p:spPr>
            <a:xfrm>
              <a:off x="907920" y="6480"/>
              <a:ext cx="80726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задачи бюджетной политики Илек-Пеньковского сельского поселения за 20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год</a:t>
              </a:r>
              <a:br>
                <a:rPr sz="29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2" name="Номер слайда 13"/>
          <p:cNvSpPr/>
          <p:nvPr/>
        </p:nvSpPr>
        <p:spPr>
          <a:xfrm>
            <a:off x="8675640" y="6381720"/>
            <a:ext cx="371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F84D-8C00-432A-ACA6-6EF1FD3AE209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Скругленный прямоугольник 6"/>
          <p:cNvSpPr/>
          <p:nvPr/>
        </p:nvSpPr>
        <p:spPr>
          <a:xfrm>
            <a:off x="4929120" y="3571920"/>
            <a:ext cx="4071960" cy="1152360"/>
          </a:xfrm>
          <a:prstGeom prst="roundRect">
            <a:avLst>
              <a:gd name="adj" fmla="val 16667"/>
            </a:avLst>
          </a:prstGeom>
          <a:solidFill>
            <a:srgbClr val="deebf7">
              <a:alpha val="66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тимизация расходов бюджета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Скругленный прямоугольник 8"/>
          <p:cNvSpPr/>
          <p:nvPr/>
        </p:nvSpPr>
        <p:spPr>
          <a:xfrm>
            <a:off x="214200" y="928800"/>
            <a:ext cx="4500720" cy="1071360"/>
          </a:xfrm>
          <a:prstGeom prst="roundRect">
            <a:avLst>
              <a:gd name="adj" fmla="val 16667"/>
            </a:avLst>
          </a:prstGeom>
          <a:solidFill>
            <a:srgbClr val="deebf7">
              <a:alpha val="66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еспечение сбалансированности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Скругленный прямоугольник 9"/>
          <p:cNvSpPr/>
          <p:nvPr/>
        </p:nvSpPr>
        <p:spPr>
          <a:xfrm>
            <a:off x="179280" y="2133720"/>
            <a:ext cx="4500720" cy="1071360"/>
          </a:xfrm>
          <a:prstGeom prst="roundRect">
            <a:avLst>
              <a:gd name="adj" fmla="val 16667"/>
            </a:avLst>
          </a:prstGeom>
          <a:solidFill>
            <a:srgbClr val="deebf7">
              <a:alpha val="66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величение собственных доходов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Скругленный прямоугольник 10"/>
          <p:cNvSpPr/>
          <p:nvPr/>
        </p:nvSpPr>
        <p:spPr>
          <a:xfrm>
            <a:off x="4932360" y="5013360"/>
            <a:ext cx="4071960" cy="1224000"/>
          </a:xfrm>
          <a:prstGeom prst="roundRect">
            <a:avLst>
              <a:gd name="adj" fmla="val 16667"/>
            </a:avLst>
          </a:prstGeom>
          <a:solidFill>
            <a:srgbClr val="deebf7">
              <a:alpha val="66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кращение объема дефицита районного бюджет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AutoShape 15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8" name="Picture 16" descr="ABCD0014"/>
          <p:cNvPicPr/>
          <p:nvPr/>
        </p:nvPicPr>
        <p:blipFill>
          <a:blip r:embed="rId2"/>
          <a:stretch/>
        </p:blipFill>
        <p:spPr>
          <a:xfrm>
            <a:off x="395280" y="3573360"/>
            <a:ext cx="41036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c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TextBox 2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gradFill rotWithShape="0">
            <a:gsLst>
              <a:gs pos="0">
                <a:srgbClr val="c5e0b4"/>
              </a:gs>
              <a:gs pos="100000">
                <a:srgbClr val="e1ecfb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регулирует Бюджетный кодекс Российской Федер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TextBox 3"/>
          <p:cNvSpPr/>
          <p:nvPr/>
        </p:nvSpPr>
        <p:spPr>
          <a:xfrm>
            <a:off x="395280" y="1125360"/>
            <a:ext cx="8569440" cy="82404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ый кодекс Российской Федерации (принят в 1998 году) устанавливает общие принципы бюджетного законодательства Российской Федерации, организации и функционирования бюджетной системы Российской Федерации, определяет основы бюджетного процесса и межбюджетных отношений, основания и виды ответственности за нарушение бюджетного законодательства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TextBox 4"/>
          <p:cNvSpPr/>
          <p:nvPr/>
        </p:nvSpPr>
        <p:spPr>
          <a:xfrm>
            <a:off x="428760" y="2071800"/>
            <a:ext cx="8569080" cy="368280"/>
          </a:xfrm>
          <a:prstGeom prst="rect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юджетный кодекс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Box 5"/>
          <p:cNvSpPr/>
          <p:nvPr/>
        </p:nvSpPr>
        <p:spPr>
          <a:xfrm>
            <a:off x="395280" y="2430360"/>
            <a:ext cx="1944720" cy="946440"/>
          </a:xfrm>
          <a:prstGeom prst="rect">
            <a:avLst/>
          </a:prstGeom>
          <a:solidFill>
            <a:srgbClr val="ffe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пол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TextBox 7"/>
          <p:cNvSpPr/>
          <p:nvPr/>
        </p:nvSpPr>
        <p:spPr>
          <a:xfrm>
            <a:off x="4465800" y="2433600"/>
            <a:ext cx="2193840" cy="946440"/>
          </a:xfrm>
          <a:prstGeom prst="rect">
            <a:avLst/>
          </a:prstGeom>
          <a:solidFill>
            <a:srgbClr val="ffe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ые процесс в 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Box 8"/>
          <p:cNvSpPr/>
          <p:nvPr/>
        </p:nvSpPr>
        <p:spPr>
          <a:xfrm>
            <a:off x="2341440" y="2433600"/>
            <a:ext cx="2124360" cy="946440"/>
          </a:xfrm>
          <a:prstGeom prst="rect">
            <a:avLst/>
          </a:prstGeom>
          <a:solidFill>
            <a:srgbClr val="ffe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ая система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TextBox 9"/>
          <p:cNvSpPr/>
          <p:nvPr/>
        </p:nvSpPr>
        <p:spPr>
          <a:xfrm>
            <a:off x="6659640" y="2430360"/>
            <a:ext cx="2305080" cy="946440"/>
          </a:xfrm>
          <a:prstGeom prst="rect">
            <a:avLst/>
          </a:prstGeom>
          <a:solidFill>
            <a:srgbClr val="ffe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ые нарушения и бюджетные меры прину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Box 10"/>
          <p:cNvSpPr/>
          <p:nvPr/>
        </p:nvSpPr>
        <p:spPr>
          <a:xfrm>
            <a:off x="395280" y="3359160"/>
            <a:ext cx="1944720" cy="1159560"/>
          </a:xfrm>
          <a:prstGeom prst="rect">
            <a:avLst/>
          </a:prstGeom>
          <a:solidFill>
            <a:srgbClr val="dfe9a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бюджетного законодатель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Box 11"/>
          <p:cNvSpPr/>
          <p:nvPr/>
        </p:nvSpPr>
        <p:spPr>
          <a:xfrm>
            <a:off x="2340000" y="3359160"/>
            <a:ext cx="2124000" cy="946440"/>
          </a:xfrm>
          <a:prstGeom prst="rect">
            <a:avLst/>
          </a:prstGeom>
          <a:solidFill>
            <a:srgbClr val="dfe9a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бюджетной системы Российской Федерации и бюджетной классифик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Box 12"/>
          <p:cNvSpPr/>
          <p:nvPr/>
        </p:nvSpPr>
        <p:spPr>
          <a:xfrm>
            <a:off x="4464000" y="3359160"/>
            <a:ext cx="2244600" cy="946440"/>
          </a:xfrm>
          <a:prstGeom prst="rect">
            <a:avLst/>
          </a:prstGeom>
          <a:solidFill>
            <a:srgbClr val="dfe9a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и бюджетного проце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Box 13"/>
          <p:cNvSpPr/>
          <p:nvPr/>
        </p:nvSpPr>
        <p:spPr>
          <a:xfrm>
            <a:off x="6669000" y="3359160"/>
            <a:ext cx="2295720" cy="946440"/>
          </a:xfrm>
          <a:prstGeom prst="rect">
            <a:avLst/>
          </a:prstGeom>
          <a:solidFill>
            <a:srgbClr val="dfe9a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ые нарушения и их ви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Box 14"/>
          <p:cNvSpPr/>
          <p:nvPr/>
        </p:nvSpPr>
        <p:spPr>
          <a:xfrm>
            <a:off x="395280" y="4295880"/>
            <a:ext cx="1944720" cy="520200"/>
          </a:xfrm>
          <a:prstGeom prst="rect">
            <a:avLst/>
          </a:prstGeom>
          <a:solidFill>
            <a:srgbClr val="dfe9a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понятия и терми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Box 15"/>
          <p:cNvSpPr/>
          <p:nvPr/>
        </p:nvSpPr>
        <p:spPr>
          <a:xfrm>
            <a:off x="2340000" y="4305240"/>
            <a:ext cx="2193840" cy="520200"/>
          </a:xfrm>
          <a:prstGeom prst="rect">
            <a:avLst/>
          </a:prstGeom>
          <a:solidFill>
            <a:srgbClr val="dfe9a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бюджетной сист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Box 16"/>
          <p:cNvSpPr/>
          <p:nvPr/>
        </p:nvSpPr>
        <p:spPr>
          <a:xfrm>
            <a:off x="4464000" y="4295880"/>
            <a:ext cx="2195640" cy="520200"/>
          </a:xfrm>
          <a:prstGeom prst="rect">
            <a:avLst/>
          </a:prstGeom>
          <a:solidFill>
            <a:srgbClr val="dfe9a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мочия участников бюджетного проце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Box 17"/>
          <p:cNvSpPr/>
          <p:nvPr/>
        </p:nvSpPr>
        <p:spPr>
          <a:xfrm>
            <a:off x="6659640" y="4295880"/>
            <a:ext cx="2305080" cy="520200"/>
          </a:xfrm>
          <a:prstGeom prst="rect">
            <a:avLst/>
          </a:prstGeom>
          <a:solidFill>
            <a:srgbClr val="dfe9a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ые меры прину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TextBox 18"/>
          <p:cNvSpPr/>
          <p:nvPr/>
        </p:nvSpPr>
        <p:spPr>
          <a:xfrm>
            <a:off x="396720" y="4786200"/>
            <a:ext cx="1944720" cy="2012040"/>
          </a:xfrm>
          <a:prstGeom prst="rect">
            <a:avLst/>
          </a:prstGeom>
          <a:solidFill>
            <a:srgbClr val="dfe9a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раничение бюджетных полномочий Российской Федерации, субъектов Российской Федерации и муниципальных образ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Box 19"/>
          <p:cNvSpPr/>
          <p:nvPr/>
        </p:nvSpPr>
        <p:spPr>
          <a:xfrm>
            <a:off x="2340000" y="4786200"/>
            <a:ext cx="2135160" cy="2012040"/>
          </a:xfrm>
          <a:prstGeom prst="rect">
            <a:avLst/>
          </a:prstGeom>
          <a:solidFill>
            <a:srgbClr val="dfe9a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ложения о доходах и расходах бюджетов, государственном (муниципальном) долге, межбюджетных трансфер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Box 20"/>
          <p:cNvSpPr/>
          <p:nvPr/>
        </p:nvSpPr>
        <p:spPr>
          <a:xfrm>
            <a:off x="4500720" y="4826160"/>
            <a:ext cx="2205000" cy="2012040"/>
          </a:xfrm>
          <a:prstGeom prst="rect">
            <a:avLst/>
          </a:prstGeom>
          <a:solidFill>
            <a:srgbClr val="dfe9a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ы государственного финансов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Box 21"/>
          <p:cNvSpPr/>
          <p:nvPr/>
        </p:nvSpPr>
        <p:spPr>
          <a:xfrm>
            <a:off x="6659640" y="4778280"/>
            <a:ext cx="2305080" cy="2012040"/>
          </a:xfrm>
          <a:prstGeom prst="rect">
            <a:avLst/>
          </a:prstGeom>
          <a:solidFill>
            <a:srgbClr val="dfe9a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Номер слайда 22"/>
          <p:cNvSpPr/>
          <p:nvPr/>
        </p:nvSpPr>
        <p:spPr>
          <a:xfrm>
            <a:off x="8604360" y="6381720"/>
            <a:ext cx="36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45DE-490A-41FB-A5E3-21670E7E2BD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1T11:45:15Z</dcterms:created>
  <dc:creator>Потатуркина Татьяна Андреевна</dc:creator>
  <dc:description/>
  <dc:language>en-US</dc:language>
  <cp:lastModifiedBy>isaeva</cp:lastModifiedBy>
  <dcterms:modified xsi:type="dcterms:W3CDTF">2023-04-27T11:56:15Z</dcterms:modified>
  <cp:revision>471</cp:revision>
  <dc:subject/>
  <dc:title>Слайд 1</dc:title>
</cp:coreProperties>
</file>